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A0BD-DB49-41FD-8A99-A737A083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C760-23E5-4413-85F9-086420BA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6BD5-98DB-4722-90FA-1477A629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5118-FC69-4FC9-8408-8382150D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97BE-5C58-4561-BD59-C506EC8A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5A42-FB4F-4853-BA7D-AD9377B7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1B26-D3E8-4C95-9463-5574E682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FDFB-3F53-4724-880F-07AB74C5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218F-52F8-495D-AC37-7A5C952C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52B8-839D-4927-8E90-4E5F82A1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E653-7C51-4CFB-BB77-5101BCC3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F6DD-7C69-4F4B-8317-09CB21FD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88C358-421D-4BE8-A56A-992DECE66D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4B3EF-694C-4287-9A27-72536415D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tn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. Ru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tn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d US involvement in Vietnam help stop the spread of communis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we will do to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No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e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Cornell No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/ contrast Korea and Viet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3:36:34Z</dcterms:created>
  <dc:creator>Craig Rush</dc:creator>
  <dc:description/>
  <dc:language>en-US</dc:language>
  <cp:lastModifiedBy>Craig Rush</cp:lastModifiedBy>
  <dcterms:modified xsi:type="dcterms:W3CDTF">2012-02-21T13:38:13Z</dcterms:modified>
  <cp:revision>1</cp:revision>
  <dc:subject/>
  <dc:title>Vietnam</dc:title>
</cp:coreProperties>
</file>